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48F-584F-49B1-9349-A67F929B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E09-E1A4-4373-9736-19D9769E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681-D1B1-4982-AA77-1C601705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68D-BC7D-43AB-A70E-47137DBC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310-8391-40EE-95D5-16810720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58D-AD8B-4683-BE99-B8548828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942-BB01-402E-8E0D-BCF037E0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BAD-2458-49CD-8069-89109A6D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55F-3BCA-4D3C-917B-F9BD8B0D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766-9D37-4CAC-8DE1-CCA0E15A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C40-AA6A-46DA-92F6-30CA3160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C40-04F6-4330-951F-6293817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CAA7-BD74-481E-94DF-A203AD65F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569880" y="2685960"/>
          <a:ext cx="774072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685960"/>
                    <a:ext cx="77407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585080" y="649116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49120" y="96516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22800" y="2219400"/>
            <a:ext cx="3189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emperatura obudowy Tc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flipV="1">
            <a:off x="4800240" y="1744560"/>
            <a:ext cx="297000" cy="3096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60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7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2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4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60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2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6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31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50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5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6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8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eciwsob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5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9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9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9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20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3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3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7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5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1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2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7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4" name=""/>
          <p:cNvGraphicFramePr/>
          <p:nvPr/>
        </p:nvGraphicFramePr>
        <p:xfrm>
          <a:off x="384120" y="1236600"/>
          <a:ext cx="7815240" cy="38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781524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8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5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8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21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5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8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2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5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8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9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2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044800" y="2778120"/>
            <a:ext cx="452736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4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7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70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8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3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6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9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3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8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11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419560" y="1427040"/>
            <a:ext cx="373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ąd spoczynkowy=kilka %amplitudy 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2486160" y="1979640"/>
            <a:ext cx="1831680" cy="18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562440" y="2614680"/>
            <a:ext cx="35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6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9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30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8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51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70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5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8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43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6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8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5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7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9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2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92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4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83440" y="2560680"/>
            <a:ext cx="582480" cy="1955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49400" y="1301760"/>
            <a:ext cx="6938640" cy="45640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00680" y="1811160"/>
            <a:ext cx="2270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 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drugie przebic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8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6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9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2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5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 f/my 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4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8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0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2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4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6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8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0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1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3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5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4480" y="2517840"/>
            <a:ext cx="2142000" cy="1809000"/>
            <a:chOff x="6324480" y="2517840"/>
            <a:chExt cx="2142000" cy="1809000"/>
          </a:xfrm>
        </p:grpSpPr>
        <p:sp>
          <p:nvSpPr>
            <p:cNvPr id="1097" name=""/>
            <p:cNvSpPr/>
            <p:nvPr/>
          </p:nvSpPr>
          <p:spPr>
            <a:xfrm>
              <a:off x="6337800" y="2517840"/>
              <a:ext cx="182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47520" y="3038400"/>
              <a:ext cx="157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48960" y="3546360"/>
              <a:ext cx="193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4480" y="4067280"/>
              <a:ext cx="214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12-08T17:55:26Z</dcterms:modified>
  <cp:revision>61</cp:revision>
  <dc:subject/>
  <dc:title>Wzmacniacze mocy</dc:title>
</cp:coreProperties>
</file>